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gif" ContentType="image/gif"/>
  <Override PartName="/ppt/media/image6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7.png" ContentType="image/png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5CDAE-F765-466A-8C5D-1998A70833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5D2F5-6208-4824-8873-86C8D5393E5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5A64B-2B0B-43BF-BE55-CCEAEF40B9C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EB7B5-3DAA-4897-96C9-60286B8054D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904A9-1F39-49E4-B309-77B5F609D42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68187-2B0A-437D-8A79-D671D8E3A14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3E3AE-F6E0-4080-8246-7DA6F847070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F93B3-FC44-4411-B306-FA4748A2E83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677A1-735D-4E4E-ABFE-A468D19AEFD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4C6A1-9AC5-4B21-8A5C-046C74499A8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6316E-E0C0-4F37-93FA-71F4560C9CD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571AC-9047-4ABC-83A6-808F12AA340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9C3D9-B5FA-4860-A654-B2B82A9DF4F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A6CBE-EDA0-42D1-97A5-1769979ED55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F7119-6E82-4DEE-BDD8-CDF67256370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625C2-281E-4C8F-BC9D-6C23C36F975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D263E-89B9-4A12-B8A5-E926AD11C53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335D7-D664-49AF-A0AD-225E2868E9E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075F8-42E1-4BEF-B0F2-ACFD1819330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97C7D-C697-4492-B955-C5CACBEF101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DE4A-A570-45B0-90FD-AC26DA4DA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189C-AED6-4CD3-B2FC-5A8B1DF0A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2778-6322-4E89-853C-23FF6D8F6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CEAD-4D3F-4FD0-942F-EA24ACAD9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37509-098A-43E4-B15D-312808C6E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7D64A-01FA-49E7-A630-5D2FE3C49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C4259-6DCF-46A0-8CAA-D6C9F1285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FD6A6-7717-4A8B-BF5E-1CA8784CB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EF048-4091-4801-A828-C00F1FF93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0FF31-40F7-4605-87FB-D496D7B92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48BDD-EF3E-4BDC-A792-35EB63734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3387-D573-4B2B-8881-AAD8CF6EB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D3293-F617-4EF3-8991-89F634B96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373E3-862F-4785-8F60-37C773017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00018-F7AC-44E2-A1FD-D5A996E1E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2D0E5-7A2B-44FC-947A-A316E69BB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C965A-2A17-4D4C-9C57-415D3443D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A9426-7B8D-496B-9355-E48A1C222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A7FDB-3FD6-451E-9884-EBDD77930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682CD-4CF9-49BD-A1B7-FF29FD277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8D0E4-5D04-4DFA-84B7-E165ACDE8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D5996-E333-49CD-A2FC-AA749AD41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9D04-44EE-470C-81AD-26C34F31B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CBC63-49C5-4751-92D6-5BEA27DF9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B39F1-71CD-4B34-B174-2CFD0DFFC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092EF-3E10-4B18-8925-E2CDA30F7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40097-D2AF-490C-BE05-555D74B5C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C6931-5491-44F4-A43D-78574965D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CC998-0199-47D2-8615-45D5D523C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D4D05-EC28-4341-A9CF-D66F5079E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AE523-47FD-43BC-B83A-83ADB60FC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11277-266D-4C90-85B3-94DBDB9C8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9FF7E2-3303-4547-A4CD-FBD3012B4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C7D6-E2E2-45E7-A4FB-9A94F31B0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9B1B1-9061-4DCB-8B83-63EB6D9FC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046EA8-D751-4D6E-BB41-50C60BB3E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90CFE-D6EF-44E5-A6A8-B2CFAC7A1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4631B-DCAD-4411-89B2-E2EEF862A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F7EC3-A411-45E7-8F23-6CE0F82D8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9232A-6BEE-4BEF-B778-69ED777DD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764EC-B86F-4306-B82D-86296797E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185F5-B974-4028-A6A3-66F63ED53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6EA43-01C9-462A-840E-C5EE2CFE4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AB7CFB-5441-4F2A-9309-43AFA9F3E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71D9-3850-4F01-B4A1-1468A6014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BB3AB4-74BF-4F81-A573-F4B4A4588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07A692-3BB3-40C3-81AB-A9E61611E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D98BBF-093A-474F-B4D7-D9A1D3B1E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7AC9F3-37E2-47D7-A7EE-1D07FFA13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01456B-9C29-470B-8F78-88D3C48D4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3F18D7-F660-40D9-988F-7035B466A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B9F656-739F-41A4-8A45-B2A3ED7E3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FE7CAD-FE55-4EC1-AF55-6A97557CD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1566E4-BD1E-49FA-A3DE-864664EA6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C4B78A-47D0-463F-960A-745D8D7AE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9228-38B6-4FDB-8330-210F5AC0A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F8294E-294E-481F-A7A7-3300F7EB2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420EEC-C26F-4EFE-8837-35AA4C245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B75827-6D73-4C65-97C9-75537D9D0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216C3A-BBE4-4486-922E-BD272AA4D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15F0EE-8707-48D6-B569-80715C493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3FB9EB-9816-42FD-B77D-69AD0EB9D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FCA18D-38A8-4ECD-B872-74BC7514D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08520E-13C2-4E38-825C-940EA2CF2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9E441B-0D07-4E78-AD78-EA4AFF198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F15383-7B5D-44D6-8498-89AC14DEB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F612-0C4B-4484-8266-101B33228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01AFB5-69EF-4EC5-BF92-1EE1A44B9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D7DB8B-5907-489F-8FA5-5C83DCE45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ABDABF-F49F-46BF-B601-8926C37B4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A35BD2-DD60-4B4E-8D14-762C27CBF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DAE6F6-EC15-4582-8C66-ADF41580F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DBB035-A82B-4141-91C2-A359B7FCC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4A3F68-C2DF-4D63-9BBE-C64027122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11731F-79AD-4BA1-A436-0B450E94F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5BCE23-3D79-4264-A143-70EE4A596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A02170-D0CF-4A93-AE2B-C5928BCF1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BDFC-14EC-4BB9-8975-5235C1387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B98D80-B64A-46AC-B16C-556642CD2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2BD78B-E130-45B0-BAE2-A53B74DE0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1DEEEF-5621-49A2-ADA8-FEB66D342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3C0F02-2A17-4CE9-8C5D-6C700760C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CBEB83-60DA-4466-A931-9E17BAAE4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0D0F-7D59-4944-B6F8-16D4A64DA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D8290-E835-4C7D-9F29-26E1D480FE0F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E5CCA-99CB-4074-A82E-74A1D70317A8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7093F-54B5-4935-B223-CAFE7057787F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1B721-26DD-4BBF-851E-F13D955B389C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3A51E-CFAB-4487-A305-9C0461672284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A23BC-A0DE-45C2-8E7A-692D0AECC46F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Straight Connector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Straight Connector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Straight Connector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83EB2-A602-49F3-ACDC-EB549CCBEF69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Rectangle 2" descr=""/>
          <p:cNvPicPr/>
          <p:nvPr/>
        </p:nvPicPr>
        <p:blipFill>
          <a:blip r:embed="rId1"/>
          <a:stretch/>
        </p:blipFill>
        <p:spPr>
          <a:xfrm>
            <a:off x="682560" y="1420920"/>
            <a:ext cx="7785000" cy="19080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4" descr="Writting_books"/>
          <p:cNvPicPr/>
          <p:nvPr/>
        </p:nvPicPr>
        <p:blipFill>
          <a:blip r:embed="rId2"/>
          <a:stretch/>
        </p:blipFill>
        <p:spPr>
          <a:xfrm>
            <a:off x="3733920" y="297180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5"/>
          <p:cNvSpPr/>
          <p:nvPr/>
        </p:nvSpPr>
        <p:spPr>
          <a:xfrm>
            <a:off x="685800" y="61102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ource: Garo,C. (2007). </a:t>
            </a: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Teaching educational technology.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Manila: Rex Publishing Company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5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5,-104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64,-106,-4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5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5,-104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64,-106,-4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5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8000"/>
                            </p:stCondLst>
                            <p:childTnLst>
                              <p:par>
                                <p:cTn id="1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aracens or the Arabs among the Moors of Spai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aim of education was search for knowledge and the application of scientific facts to their daily live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their curriculum was the most organized and complete in the elementary, secondary, and collegiate level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their universities and libraries were the models in the entire Europe because they invented the printing pres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originated the scientific method of teaching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Renaissance Period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modern times bega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ines of concern: intellectual, aesthetic, and scientific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movements: humanism, disciplinism, and rationalis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Rationalism: contributed to the development of educational technology especially along theories and practic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99" name="Picture 4" descr="Lady_MacBeth_2"/>
          <p:cNvPicPr/>
          <p:nvPr/>
        </p:nvPicPr>
        <p:blipFill>
          <a:blip r:embed="rId1"/>
          <a:stretch/>
        </p:blipFill>
        <p:spPr>
          <a:xfrm>
            <a:off x="7238880" y="304920"/>
            <a:ext cx="6811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0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0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John Locke: nature of the child’s mind at birth (tabula rasa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Johann Amos Comenius: developed the first picture book known as Orbis Pictus (The World in Pictures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ioneer in instructional technology developmen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- Maria Montessori: use of multi-sensory materials in teaching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Age of Naturalism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98520" indent="-332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- Jean Jacques Rousseau: authored the book Emil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im of education was the preservation of the natural goodness of the individual and the formation of society based upon the recognition of natural individual right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Herbartian Method of Teaching: preparation, presentation, comparison and abstraction, generalization and applicatio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6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6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6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6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estallozi: believed that teaching is more effective if it proceeds from concrete to abstract, hence the use of actual and real objects that involve most of the sens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roebel: father of kindergarte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mphasized the use of actual objects which could be manipulated by the learner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recommended the use of play and song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19</a:t>
            </a:r>
            <a:r>
              <a:rPr b="0" lang="en-US" sz="4000" spc="-1" strike="noStrike" baseline="30000">
                <a:solidFill>
                  <a:srgbClr val="c1eeff"/>
                </a:solidFill>
                <a:latin typeface="Consolas"/>
              </a:rPr>
              <a:t>th</a:t>
            </a: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 Century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John Dewey: formulated the scientific theory of learning; pragmatis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dward Thorndike: three laws of learning; connectionis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aved the way to the development of effective educational technology including the production of books, use of blackboards, and improvement of writing implement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3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3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1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hotography was invented giving way to a movement called visual instructio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visual media became widely accepted in 1920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udio-visual media texts was published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n 1926, educational films were used as instructional medi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n 1932, the first instructional TV program was aired at the State University of Iow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07" name="Picture 4" descr="TV"/>
          <p:cNvPicPr/>
          <p:nvPr/>
        </p:nvPicPr>
        <p:blipFill>
          <a:blip r:embed="rId1"/>
          <a:stretch/>
        </p:blipFill>
        <p:spPr>
          <a:xfrm>
            <a:off x="7315200" y="3581280"/>
            <a:ext cx="1066680" cy="8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4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16mm sound motion picture was developed\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during the 2</a:t>
            </a:r>
            <a:r>
              <a:rPr b="0" lang="en-US" sz="3000" spc="-1" strike="noStrike" baseline="30000">
                <a:solidFill>
                  <a:srgbClr val="ffffff"/>
                </a:solidFill>
                <a:latin typeface="Corbel"/>
              </a:rPr>
              <a:t>nd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World War: movies, filmstrips, radio, and other pictorial devices were used in military training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rogrammed instruction by Skinne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Bloom’s taxonomy of educational objectiv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use of modularized instructio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4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ontemporary Time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multimedia resources and computers in classroom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maintenance of an educational media cente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revision and enrichment of curricular offerings to include courses in computer application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use of CAI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40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40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40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40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98520" indent="-3322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use of multimedia presentations in the classroom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ducational organizations are linking up with TEI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use of Internet and E-mail for fast-paced interactive learning, communication, and search for informatio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omputer literacy programs for ISYs and OSY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omputers became more user-friendl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1eeff"/>
                </a:solidFill>
                <a:latin typeface="Consolas"/>
              </a:rPr>
              <a:t>Ancient Civilization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7200" y="129528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use of pointed sticks to inscript signs and symbols on the leav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use of knives to inscript signs and symbols on the bark of tre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0" name="Picture 4" descr=""/>
          <p:cNvPicPr/>
          <p:nvPr/>
        </p:nvPicPr>
        <p:blipFill>
          <a:blip r:embed="rId1"/>
          <a:stretch/>
        </p:blipFill>
        <p:spPr>
          <a:xfrm>
            <a:off x="5105520" y="1371600"/>
            <a:ext cx="3809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mph" presetID="3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Egyptians (3100 B.C.)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developed a system of picture writing called hieroglyphic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Hieroglyphics – may represent the objects for which they stand for or represent a sound or group of sound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cribes – group of men trained on the art of writing and came to be the country’s chronicler of events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49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5"/>
          <p:cNvSpPr/>
          <p:nvPr/>
        </p:nvSpPr>
        <p:spPr>
          <a:xfrm>
            <a:off x="457200" y="22860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bout 3100 B.C.  Devised a  a system of picture writing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4" name="WordArt 6"/>
          <p:cNvSpPr txBox="1"/>
          <p:nvPr/>
        </p:nvSpPr>
        <p:spPr>
          <a:xfrm>
            <a:off x="2209680" y="762120"/>
            <a:ext cx="44960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Kristen ITC"/>
              </a:rPr>
              <a:t>hieroglyphics</a:t>
            </a:r>
            <a:endParaRPr b="0" i="1" lang="en-US" sz="18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Kristen ITC"/>
              <a:ea typeface="Kristen ITC"/>
            </a:endParaRPr>
          </a:p>
        </p:txBody>
      </p:sp>
      <p:pic>
        <p:nvPicPr>
          <p:cNvPr id="385" name="Picture 4" descr=""/>
          <p:cNvPicPr/>
          <p:nvPr/>
        </p:nvPicPr>
        <p:blipFill>
          <a:blip r:embed="rId3"/>
          <a:stretch/>
        </p:blipFill>
        <p:spPr>
          <a:xfrm>
            <a:off x="533520" y="1676520"/>
            <a:ext cx="807696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WordArt 6"/>
          <p:cNvSpPr txBox="1"/>
          <p:nvPr/>
        </p:nvSpPr>
        <p:spPr>
          <a:xfrm>
            <a:off x="457200" y="380880"/>
            <a:ext cx="3429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Kristen ITC"/>
              </a:rPr>
              <a:t>hieroglyphics</a:t>
            </a:r>
            <a:endParaRPr b="0" i="1" lang="en-US" sz="18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Kristen ITC"/>
              <a:ea typeface="Kristen ITC"/>
            </a:endParaRPr>
          </a:p>
        </p:txBody>
      </p:sp>
      <p:sp>
        <p:nvSpPr>
          <p:cNvPr id="387" name="Rectangle 4"/>
          <p:cNvSpPr/>
          <p:nvPr/>
        </p:nvSpPr>
        <p:spPr>
          <a:xfrm>
            <a:off x="533520" y="129528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ecff"/>
                </a:solidFill>
                <a:latin typeface="Garamond"/>
              </a:rPr>
              <a:t>Represent the objects for which they stand for and represent a sound or group of sounds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88" name="Picture 4" descr=""/>
          <p:cNvPicPr/>
          <p:nvPr/>
        </p:nvPicPr>
        <p:blipFill>
          <a:blip r:embed="rId3"/>
          <a:stretch/>
        </p:blipFill>
        <p:spPr>
          <a:xfrm>
            <a:off x="380880" y="2209680"/>
            <a:ext cx="8382240" cy="42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Ancient Greec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90240" indent="-325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partan Education – emphasized the development of the physical body coupled with discipline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rbel"/>
              </a:rPr>
              <a:t>Boys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exercises and activities that promoted bodily strength, endurance, and vitality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activities: dancing, wrestling, horseback riding, swimming, gymnastic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Paidonomus: the boys’ teacher; a military commander in the public barrack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rbel"/>
              </a:rPr>
              <a:t>Girls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stayed at home with their mothers and were taught housekeeping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74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Athen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rst to recognize the right of the individual to develop to the fulles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believed that the mind and the body has a strong relationship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rime concern of music schools, grammar schools, and public gymnasiums / palaestra is developing the mind and the bod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109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ophist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- wandering scholar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- emphasized cognitive rules, systematic arrangement of subject matter, use of instructional technologies, design and implementation of effective instructional material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Medieval Er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stablishment of the Medieval Universit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mperor Frederick I of Bologna in 1158 chartered the first universit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degrees offered were expanded which required students to engage in more in depth studies and to write their theses, defend them in public before the deans, facultas, and rector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5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5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5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5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14:51:21Z</dcterms:created>
  <dc:creator>User</dc:creator>
  <dc:description/>
  <dc:language>en-US</dc:language>
  <cp:lastModifiedBy>msu-iit</cp:lastModifiedBy>
  <dcterms:modified xsi:type="dcterms:W3CDTF">2011-06-28T03:45:28Z</dcterms:modified>
  <cp:revision>52</cp:revision>
  <dc:subject/>
  <dc:title>History of Educational Technology</dc:title>
</cp:coreProperties>
</file>